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2D642-2156-4C0F-868D-ADF37AACE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DD984-EFEE-426A-90D3-42B1BEDDC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7458B-3DCC-49CF-AD51-6B3C84456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BD82E-F79D-447B-A64E-865A638F7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944A-7B70-4202-8B66-B8931FDD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778F3-C747-432A-A1A0-5C582BB55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6B3E8-A797-427A-84F6-43B34FFDF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627D-B9B0-401D-A9F7-E7D9347BA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A3FE-D3F2-4A31-A5C9-86A2F3C7B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541D-34C6-4901-8A3A-BB3D1F79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04C1-F483-4DDF-848D-362AACE3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8874-3F61-4E18-8A7F-0DC777C2B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F073-5560-45D1-BD2D-2662FDD3C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uman Bo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of the Bo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atic Nervous system: reflex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ic nervous system: are involuntary control 2 divis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pathetic controls during times of str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ympathetic controls during times of 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ory System</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veoli the branches in the lungs where gas exchange takes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phragm: the muscle  between the ribs that expands and contracts the chest ca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ulla oblongata helps control breat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blood cells RBC transport oxygen;lack a nucleus, contain hemoglob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 blood cells WBC defend against dise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elets: cell fragments used for clot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 liquid transports all of the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eries carry blood away from the he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ns carry blood to the he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llaries where gas exchange takes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chambered heart: Which allows for complete separation of oxygenated and deoxgenated bl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7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to vena cava then into right atr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ight atrium to right ventricle to pulmonary art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monary artery to lungs then to pulmonary ve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ir it goes to left atrium, then left ventric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out of the body through the aorta.</a:t>
            </a:r>
            <a:endParaRPr b="0" lang="en-US" sz="2400" spc="-1" strike="noStrike">
              <a:solidFill>
                <a:srgbClr val="000000"/>
              </a:solidFill>
              <a:latin typeface="Times New Roman"/>
            </a:endParaRPr>
          </a:p>
        </p:txBody>
      </p:sp>
      <p:pic>
        <p:nvPicPr>
          <p:cNvPr id="74" name="heart" descr=""/>
          <p:cNvPicPr/>
          <p:nvPr/>
        </p:nvPicPr>
        <p:blipFill>
          <a:blip r:embed="rId1"/>
          <a:stretch/>
        </p:blipFill>
        <p:spPr>
          <a:xfrm>
            <a:off x="457200" y="1905120"/>
            <a:ext cx="411480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inary System</a:t>
            </a:r>
            <a:endParaRPr b="0" lang="en-US" sz="4400" spc="-1" strike="noStrike">
              <a:solidFill>
                <a:srgbClr val="000000"/>
              </a:solidFill>
              <a:latin typeface="Times New Roman"/>
            </a:endParaRPr>
          </a:p>
        </p:txBody>
      </p:sp>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dneys: filter the blood to remove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ter: connects kidneys to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dder: stores urine</a:t>
            </a:r>
            <a:endParaRPr b="0" lang="en-US" sz="2800" spc="-1" strike="noStrike">
              <a:solidFill>
                <a:srgbClr val="000000"/>
              </a:solidFill>
              <a:latin typeface="Times New Roman"/>
            </a:endParaRPr>
          </a:p>
        </p:txBody>
      </p:sp>
      <p:pic>
        <p:nvPicPr>
          <p:cNvPr id="77" name="urinary" descr=""/>
          <p:cNvPicPr/>
          <p:nvPr/>
        </p:nvPicPr>
        <p:blipFill>
          <a:blip r:embed="rId1"/>
          <a:stretch/>
        </p:blipFill>
        <p:spPr>
          <a:xfrm>
            <a:off x="533520" y="1752480"/>
            <a:ext cx="354168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e Reproductive Syste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mone contr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ituitary gland releases FSH and LH  which stimulates the production of sperm and testosterone. As testosterone levels increase production of FSH and LH slows. When sperm and testosterone levels drop, production of FSH and LH increase ag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strual Cycle</a:t>
            </a:r>
            <a:endParaRPr b="0" lang="en-US" sz="4400" spc="-1" strike="noStrike">
              <a:solidFill>
                <a:srgbClr val="000000"/>
              </a:solidFill>
              <a:latin typeface="Times New Roman"/>
            </a:endParaRPr>
          </a:p>
        </p:txBody>
      </p:sp>
      <p:pic>
        <p:nvPicPr>
          <p:cNvPr id="81" name="menstrual2" descr=""/>
          <p:cNvPicPr/>
          <p:nvPr/>
        </p:nvPicPr>
        <p:blipFill>
          <a:blip r:embed="rId1"/>
          <a:stretch/>
        </p:blipFill>
        <p:spPr>
          <a:xfrm>
            <a:off x="990720" y="1600200"/>
            <a:ext cx="70102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ale Reproductive System</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ones</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tuitary releases FSH; the follicle that is maturing releases estrogen. The increases in estrogen feeds back to the pituitary so that FSH and LH are slowed down. Just before ovulation estrogen levels peak stimulating a sharp rise in LH causing the follicle to rupture. The corpus leteum produces  progesterone and some estrogen and prevents the release of LH. If fertilization does not occur then the rising levels of progesterone and estrogen inhibit the release of FSH and LH and the uterine lining sh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une System</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immunity: skin, body secretions, inflammation, phagocytosis  ( phagocytes and macropha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d Immunity: gradual build up of resistance (spleen and tons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ody immunity: chemical warfare within your body, antibodies that attack antigens.</a:t>
            </a:r>
            <a:endParaRPr b="0" lang="en-US" sz="2400" spc="-1" strike="noStrike">
              <a:solidFill>
                <a:srgbClr val="000000"/>
              </a:solidFill>
              <a:latin typeface="Times New Roman"/>
            </a:endParaRPr>
          </a:p>
          <a:p>
            <a:pPr marL="343080" indent="-343080">
              <a:lnSpc>
                <a:spcPct val="90000"/>
              </a:lnSpc>
              <a:spcBef>
                <a:spcPts val="6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B- cells make antibodies for the body (memory cells that will help the next time you get sick)</a:t>
            </a:r>
            <a:endParaRPr b="0" lang="en-US" sz="2400" spc="-1" strike="noStrike">
              <a:solidFill>
                <a:srgbClr val="000000"/>
              </a:solidFill>
              <a:latin typeface="Times New Roman"/>
            </a:endParaRPr>
          </a:p>
          <a:p>
            <a:pPr marL="343080" indent="-343080">
              <a:lnSpc>
                <a:spcPct val="90000"/>
              </a:lnSpc>
              <a:spcBef>
                <a:spcPts val="6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T-cell attack and destroy the cell that has the invading virus and bacte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 calcmode="lin" valueType="num">
                                      <p:cBhvr additive="base">
                                        <p:cTn id="13"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n</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Function: to regulate your internal body tempera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e org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s essential vitamins like Vit.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layer</a:t>
            </a:r>
            <a:endParaRPr b="0" lang="en-US" sz="2800" spc="-1" strike="noStrike">
              <a:solidFill>
                <a:srgbClr val="000000"/>
              </a:solidFill>
              <a:latin typeface="Times New Roman"/>
            </a:endParaRPr>
          </a:p>
        </p:txBody>
      </p:sp>
      <p:pic>
        <p:nvPicPr>
          <p:cNvPr id="45" name="skin" descr=""/>
          <p:cNvPicPr/>
          <p:nvPr/>
        </p:nvPicPr>
        <p:blipFill>
          <a:blip r:embed="rId1"/>
          <a:stretch/>
        </p:blipFill>
        <p:spPr>
          <a:xfrm>
            <a:off x="4648320" y="1676520"/>
            <a:ext cx="3809880" cy="412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une Syste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ve immunity: mother to unborn baby through placenta; nursing a ba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immunity: can be induced artifically by vacc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eletal System</a:t>
            </a: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 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 attach bone to 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ons: attach muscle to 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 marrow: helps produce blood cells</a:t>
            </a:r>
            <a:endParaRPr b="0" lang="en-US" sz="2800" spc="-1" strike="noStrike">
              <a:solidFill>
                <a:srgbClr val="000000"/>
              </a:solidFill>
              <a:latin typeface="Times New Roman"/>
            </a:endParaRPr>
          </a:p>
        </p:txBody>
      </p:sp>
      <p:pic>
        <p:nvPicPr>
          <p:cNvPr id="48" name="skeletal" descr=""/>
          <p:cNvPicPr/>
          <p:nvPr/>
        </p:nvPicPr>
        <p:blipFill>
          <a:blip r:embed="rId1"/>
          <a:stretch/>
        </p:blipFill>
        <p:spPr>
          <a:xfrm>
            <a:off x="609480" y="1523880"/>
            <a:ext cx="365760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ar System</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oth muscle: involuntary musc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iac Muscle: Involuntary mus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eletal Muscle:voluntary control</a:t>
            </a:r>
            <a:endParaRPr b="0" lang="en-US" sz="2800" spc="-1" strike="noStrike">
              <a:solidFill>
                <a:srgbClr val="000000"/>
              </a:solidFill>
              <a:latin typeface="Times New Roman"/>
            </a:endParaRPr>
          </a:p>
        </p:txBody>
      </p:sp>
      <p:pic>
        <p:nvPicPr>
          <p:cNvPr id="51" name="muscle" descr=""/>
          <p:cNvPicPr/>
          <p:nvPr/>
        </p:nvPicPr>
        <p:blipFill>
          <a:blip r:embed="rId1"/>
          <a:stretch/>
        </p:blipFill>
        <p:spPr>
          <a:xfrm>
            <a:off x="4992840" y="1447920"/>
            <a:ext cx="369396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estive System</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alivary glands secrete salivary amyl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mach: secretes pepsin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creas: Trypsin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intestines: maltase, sucrase,peptid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r: produces bile which helps to breakdown f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llbladder: stores b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crine Syste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tuitary gland: master g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alamus: controls the pituitary g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yroid gland: Secretes thyroxin which stimulates growth and metabo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nal gland: Secretes adrena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ary: estrogen progester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s: testoster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crine System</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Feedback System:  a self-regulating system in which the hormones, or their effects, are fed back to inhibit the original signal.</a:t>
            </a:r>
            <a:endParaRPr b="0" lang="en-US" sz="2800" spc="-1" strike="noStrike">
              <a:solidFill>
                <a:srgbClr val="000000"/>
              </a:solidFill>
              <a:latin typeface="Times New Roman"/>
            </a:endParaRPr>
          </a:p>
        </p:txBody>
      </p:sp>
      <p:pic>
        <p:nvPicPr>
          <p:cNvPr id="58" name="endocrine" descr=""/>
          <p:cNvPicPr/>
          <p:nvPr/>
        </p:nvPicPr>
        <p:blipFill>
          <a:blip r:embed="rId1"/>
          <a:stretch/>
        </p:blipFill>
        <p:spPr>
          <a:xfrm>
            <a:off x="4753080" y="1600200"/>
            <a:ext cx="36003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ons conduct impul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drites are the branches receive impulses carry them toward the body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on: single extension carries impulses away from the cell body toward muscles or glands.</a:t>
            </a:r>
            <a:endParaRPr b="0" lang="en-US" sz="2400" spc="-1" strike="noStrike">
              <a:solidFill>
                <a:srgbClr val="000000"/>
              </a:solidFill>
              <a:latin typeface="Times New Roman"/>
            </a:endParaRPr>
          </a:p>
        </p:txBody>
      </p:sp>
      <p:pic>
        <p:nvPicPr>
          <p:cNvPr id="61" name="nerve%20cell" descr=""/>
          <p:cNvPicPr/>
          <p:nvPr/>
        </p:nvPicPr>
        <p:blipFill>
          <a:blip r:embed="rId1"/>
          <a:stretch/>
        </p:blipFill>
        <p:spPr>
          <a:xfrm>
            <a:off x="685800" y="1905120"/>
            <a:ext cx="380988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NS: Brain and spinal cord coordinates all body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heral nervous system:PNS made up of all of the nerves carries messages to and from the C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14:24:29Z</dcterms:created>
  <dc:creator>Perquimans County Schools</dc:creator>
  <dc:description/>
  <dc:language>en-US</dc:language>
  <cp:lastModifiedBy>Perquimans High School</cp:lastModifiedBy>
  <dcterms:modified xsi:type="dcterms:W3CDTF">2009-05-21T13:48:46Z</dcterms:modified>
  <cp:revision>10</cp:revision>
  <dc:subject/>
  <dc:title>The Human Body</dc:title>
</cp:coreProperties>
</file>